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E05-8F8E-4C3B-AE0E-E665E6CD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659-CB8D-41BE-BF3D-F963931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BB4-FF9D-4B8A-B987-8CF94979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DE1-DC73-4F4D-9E17-6676E5C7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0E6-EA6F-4142-B56D-40990E2D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AEF-4561-448C-8005-6AF84EE4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11B-AE57-452B-AD6C-A96928D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248-E220-4FA6-8063-6CE11B8C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0F0-DC72-445C-87E5-2559D5D0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C09-CD26-46AA-8858-72C2119C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219-1AE1-4AB5-8C89-CA9E6263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438-335B-4324-98C8-5A1FD68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D21564-5525-43B0-8697-1E1B1ACA4B7F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286000"/>
            <a:ext cx="777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0" spc="-1" strike="noStrike">
                <a:solidFill>
                  <a:srgbClr val="000000"/>
                </a:solidFill>
                <a:latin typeface="Arial Black"/>
              </a:rPr>
              <a:t>Studer 98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230640"/>
            <a:ext cx="61722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Digitally Controlled Analog Conso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80" y="2444760"/>
            <a:ext cx="67284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76240" y="1981080"/>
            <a:ext cx="5594400" cy="4118040"/>
            <a:chOff x="1776240" y="1981080"/>
            <a:chExt cx="5594400" cy="411804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776240" y="1981080"/>
              <a:ext cx="5594400" cy="41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868400" y="2027160"/>
              <a:ext cx="5397480" cy="40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09480" y="1117440"/>
            <a:ext cx="5986440" cy="1695600"/>
            <a:chOff x="609480" y="1117440"/>
            <a:chExt cx="5986440" cy="1695600"/>
          </a:xfrm>
        </p:grpSpPr>
        <p:graphicFrame>
          <p:nvGraphicFramePr>
            <p:cNvPr id="50" name=""/>
            <p:cNvGraphicFramePr/>
            <p:nvPr/>
          </p:nvGraphicFramePr>
          <p:xfrm>
            <a:off x="4375080" y="1866960"/>
            <a:ext cx="1314360" cy="94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75080" y="1866960"/>
                      <a:ext cx="131436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09480" y="1117440"/>
              <a:ext cx="5986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Live transmission and recor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2451240" y="1752480"/>
            <a:ext cx="1104840" cy="106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51240" y="1752480"/>
                      <a:ext cx="1104840" cy="10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" name=""/>
          <p:cNvSpPr/>
          <p:nvPr/>
        </p:nvSpPr>
        <p:spPr>
          <a:xfrm>
            <a:off x="628560" y="2971800"/>
            <a:ext cx="437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sic Drama P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0400" y="3543480"/>
            <a:ext cx="4660920" cy="958680"/>
            <a:chOff x="590400" y="3543480"/>
            <a:chExt cx="4660920" cy="958680"/>
          </a:xfrm>
        </p:grpSpPr>
        <p:sp>
          <p:nvSpPr>
            <p:cNvPr id="57" name=""/>
            <p:cNvSpPr/>
            <p:nvPr/>
          </p:nvSpPr>
          <p:spPr>
            <a:xfrm>
              <a:off x="590400" y="3543480"/>
              <a:ext cx="23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OB Va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3949560" y="3714840"/>
            <a:ext cx="130176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49560" y="3714840"/>
                      <a:ext cx="130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628560" y="4586400"/>
            <a:ext cx="567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ltiformat Surround Prod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8560" y="5157720"/>
            <a:ext cx="456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Theatres and Opera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67560"/>
            <a:ext cx="311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Pos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693396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igital Controlled Analog Cons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Highest security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Extremly customer adap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ore than 200 special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Broadcast and Filmversions for Surroun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tatic and dynamic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ynamic Automation with Uptown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napshot and Sequencing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emory card for personal Snapshots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Programmable Processor in each channel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for highest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ltilevel data securit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ual Power supply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ltichannel extens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ynamic units available in eac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320" y="781200"/>
            <a:ext cx="561996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Multiformat Moni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104840"/>
            <a:ext cx="1727280" cy="5308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71520" y="1828800"/>
            <a:ext cx="6476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Dolby Surround produ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Two 6 channel Decoder / Encoder systems us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Monitoring possibility before 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and after coding / deco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Surround panning in each 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Input Modu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Signal path visually display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Motorized joystick p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60960" y="525780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4T15:32:38Z</dcterms:created>
  <dc:creator>Studer Informatik</dc:creator>
  <dc:description/>
  <dc:language>en-US</dc:language>
  <cp:lastModifiedBy>robis</cp:lastModifiedBy>
  <cp:lastPrinted>1998-02-18T14:35:56Z</cp:lastPrinted>
  <dcterms:modified xsi:type="dcterms:W3CDTF">2006-01-31T13:57:53Z</dcterms:modified>
  <cp:revision>38</cp:revision>
  <dc:subject/>
  <dc:title>Kein Folientitel</dc:title>
</cp:coreProperties>
</file>